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8D7-56B4-42F0-8F5A-465A50FD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954-3CCE-47B7-914B-09D85FD5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DC86-D88D-4657-8CE3-319AD2F3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CB8-723A-4B68-BEFF-104D2307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1BE-1B84-4946-9822-5742160B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B35-5E03-434B-A0A0-903F1ED9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D72-86B2-4A66-B811-20150486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94B-6AAD-4872-B260-F0E7B2FF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0F9-A18F-483E-8DEC-41C9858E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4A5-F640-4890-8F5B-34763977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2A4-D911-40FB-8C98-6F36A0B1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BA7-FA8D-4A6F-A9E1-9E4DE98C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9433-1F43-4650-BC8B-0A585BF07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cad.html" TargetMode="External"/><Relationship Id="rId3" Type="http://schemas.openxmlformats.org/officeDocument/2006/relationships/hyperlink" Target="http://web.mit.edu/invent/iow/cad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990720"/>
            <a:ext cx="4800600" cy="24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atora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480060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, Monday, March 08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800600"/>
            <a:ext cx="5791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lly Loaded &amp; Ready 2 G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11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743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ade"/>
          <p:cNvPicPr/>
          <p:nvPr/>
        </p:nvPicPr>
        <p:blipFill>
          <a:blip r:embed="rId1"/>
          <a:stretch/>
        </p:blipFill>
        <p:spPr>
          <a:xfrm>
            <a:off x="1981080" y="457200"/>
            <a:ext cx="434340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5715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Gator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h 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eb.mit.edu/invent/iow/ca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124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Robert Cade invented Gatorade in 196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orade was invented in 196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orade became a household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Gators credited Gatorade in 1967, it gained notoriety and garnered media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1, Gatorade was on its way to worldwide sales in bill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orade has expanded to include other products such as energy bars and as many as 15 Gatorade flav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obert 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Cade was born in 19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Cade was born in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Cade was trained as an internist and nephrolog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Cade was working as a Medical Researcherat the University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Cade developed products similar to Gatorade such as Go-Energy Recovery-Sh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07:49Z</dcterms:created>
  <dc:creator>install</dc:creator>
  <dc:description/>
  <dc:language>en-US</dc:language>
  <cp:lastModifiedBy>install</cp:lastModifiedBy>
  <dcterms:modified xsi:type="dcterms:W3CDTF">2010-03-18T13:40:55Z</dcterms:modified>
  <cp:revision>6</cp:revision>
  <dc:subject/>
  <dc:title>Slide 1</dc:title>
</cp:coreProperties>
</file>